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16FC-C9F3-4350-BB1C-B2F7B6D4C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2F0D-B56B-42ED-8609-424AC4F0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61BF-6817-4DF9-9C00-3BE7F0216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2B44-AA58-41B4-81C9-F9E39F33C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D9D3-C2FD-4F8C-9B22-85B886FC9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2C12-36F8-4F61-8E1C-A7E592E9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9107-F3E3-45A3-B4BC-93A1D0F1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D3E0-879A-479C-8F46-9CF1F2A6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E19E-AAD7-4A0A-88FD-B19FC46E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A735-00B0-42E5-8656-9532209E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9C35-70A3-42DB-9326-B64BB170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D51A-C7F7-471D-8A17-C05BC277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3CF5-8C53-4E32-862C-89BA5533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829B-726D-4FA2-AC03-FAE2B19A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B925-959C-4AA7-9AFF-8E4951CC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FE49-4077-460F-B9EE-C3D86C5A6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CE96-9E4B-4DB4-AFCD-6000329A7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23BF-1642-40B8-8A69-A3D20EC8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61A5-EAE1-4100-A878-4F8F29F2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7F3C-D034-4FC1-ACF7-20E45749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CCEA-EA4C-4F66-9246-A25FBC03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0E68-868D-4EBA-B51C-665E4D0E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DFF1-0D24-42F4-B23A-72EE3468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1251-E593-46B6-829D-C97F305A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95480" indent="-2214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95480" indent="-2214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95480" indent="-2214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5BF0-FE08-40AD-912A-24CEBA92950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0FB8-4D91-4B08-917A-F0CAF11AB7C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Laws of Refrac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Incident ray, normal line and refracted ray are in the same plan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Snell’s Law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: for light refracting from any one medium to another, the ratio of the sine of the angle of incidence to the sine of the angle of refraction is a constant known as the </a:t>
            </a:r>
            <a:r>
              <a:rPr b="1" i="1" lang="en-US" sz="32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index of refraction, 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</a:t>
            </a:r>
            <a:r>
              <a:rPr b="0" i="1" lang="en-US" sz="32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1, 2</a:t>
            </a: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= </a:t>
            </a:r>
            <a:r>
              <a:rPr b="0" i="1" lang="en-US" sz="32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n</a:t>
            </a:r>
            <a:r>
              <a:rPr b="0" i="1" lang="en-US" sz="3200" spc="-1" strike="noStrike" u="sng" baseline="-30000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2 </a:t>
            </a: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= </a:t>
            </a:r>
            <a:r>
              <a:rPr b="0" i="1" lang="en-US" sz="32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sine angle incidence</a:t>
            </a: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= </a:t>
            </a:r>
            <a:r>
              <a:rPr b="0" i="1" lang="en-US" sz="32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v</a:t>
            </a:r>
            <a:r>
              <a:rPr b="0" i="1" lang="en-US" sz="3200" spc="-1" strike="noStrike" u="sng" baseline="-30000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1</a:t>
            </a:r>
            <a:r>
              <a:rPr b="0" i="1" lang="en-US" sz="32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= </a:t>
            </a:r>
            <a:r>
              <a:rPr b="0" i="1" lang="en-US" sz="3200" spc="-1" strike="noStrike" u="sng">
                <a:solidFill>
                  <a:srgbClr val="ffffcc"/>
                </a:solidFill>
                <a:uFillTx/>
                <a:latin typeface="Lucida Grande"/>
                <a:ea typeface="Times New Roman"/>
              </a:rPr>
              <a:t>λ</a:t>
            </a:r>
            <a:r>
              <a:rPr b="0" i="1" lang="en-US" sz="3200" spc="-1" strike="noStrike" u="sng" baseline="-30000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        </a:t>
            </a: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</a:t>
            </a:r>
            <a:r>
              <a:rPr b="0" i="1" lang="en-US" sz="3200" spc="-1" strike="noStrike" u="sng" baseline="-30000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1</a:t>
            </a: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  sine angle refraction   v</a:t>
            </a:r>
            <a:r>
              <a:rPr b="0" i="1" lang="en-US" sz="32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2     </a:t>
            </a:r>
            <a:r>
              <a:rPr b="0" i="1" lang="en-US" sz="3200" spc="-1" strike="noStrike">
                <a:solidFill>
                  <a:srgbClr val="ffffcc"/>
                </a:solidFill>
                <a:latin typeface="Lucida Grande"/>
                <a:ea typeface="Times New Roman"/>
              </a:rPr>
              <a:t>λ</a:t>
            </a:r>
            <a:r>
              <a:rPr b="0" i="1" lang="en-US" sz="32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Comic Sans MS"/>
              </a:rPr>
              <a:t>Example: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A) What is the speed of light in water? Note: You only need to use that part of the formula that applies to this ques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v</a:t>
            </a:r>
            <a:r>
              <a:rPr b="0" i="1" lang="en-US" sz="28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air    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= 3.00 x 10</a:t>
            </a:r>
            <a:r>
              <a:rPr b="0" i="1" lang="en-US" sz="2800" spc="-1" strike="noStrike" baseline="30000">
                <a:solidFill>
                  <a:srgbClr val="ffffcc"/>
                </a:solidFill>
                <a:latin typeface="Comic Sans MS"/>
                <a:ea typeface="Times New Roman"/>
              </a:rPr>
              <a:t>8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m/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v</a:t>
            </a:r>
            <a:r>
              <a:rPr b="0" i="1" lang="en-US" sz="28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H2O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= 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 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</a:t>
            </a:r>
            <a:r>
              <a:rPr b="0" i="1" lang="en-US" sz="28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air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= 1.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</a:t>
            </a:r>
            <a:r>
              <a:rPr b="0" i="1" lang="en-US" sz="28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H20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= 1.33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</a:t>
            </a:r>
            <a:r>
              <a:rPr b="0" i="1" lang="en-US" sz="28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1,2 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= </a:t>
            </a:r>
            <a:r>
              <a:rPr b="0" i="1" lang="en-US" sz="28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n</a:t>
            </a:r>
            <a:r>
              <a:rPr b="0" i="1" lang="en-US" sz="2800" spc="-1" strike="noStrike" u="sng" baseline="-30000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2 </a:t>
            </a:r>
            <a:r>
              <a:rPr b="0" i="1" lang="en-US" sz="28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= </a:t>
            </a:r>
            <a:r>
              <a:rPr b="0" i="1" lang="en-US" sz="28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v</a:t>
            </a:r>
            <a:r>
              <a:rPr b="0" i="1" lang="en-US" sz="2800" spc="-1" strike="noStrike" u="sng" baseline="-30000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1</a:t>
            </a:r>
            <a:r>
              <a:rPr b="0" i="1" lang="en-US" sz="28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= </a:t>
            </a:r>
            <a:r>
              <a:rPr b="0" i="1" lang="en-US" sz="28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1.33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= </a:t>
            </a:r>
            <a:r>
              <a:rPr b="0" i="1" lang="en-US" sz="28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3.00 x 10</a:t>
            </a:r>
            <a:r>
              <a:rPr b="0" i="1" lang="en-US" sz="2800" spc="-1" strike="noStrike" u="sng" baseline="30000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8</a:t>
            </a:r>
            <a:r>
              <a:rPr b="0" i="1" lang="en-US" sz="28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 m/s=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2.26 x 10</a:t>
            </a:r>
            <a:r>
              <a:rPr b="0" i="1" lang="en-US" sz="2800" spc="-1" strike="noStrike" baseline="30000">
                <a:solidFill>
                  <a:srgbClr val="ffffcc"/>
                </a:solidFill>
                <a:latin typeface="Comic Sans MS"/>
                <a:ea typeface="Times New Roman"/>
              </a:rPr>
              <a:t>8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m/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    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</a:t>
            </a:r>
            <a:r>
              <a:rPr b="0" i="1" lang="en-US" sz="28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1       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v</a:t>
            </a:r>
            <a:r>
              <a:rPr b="0" i="1" lang="en-US" sz="28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  1.00         v</a:t>
            </a:r>
            <a:r>
              <a:rPr b="0" i="1" lang="en-US" sz="28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H2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ote:  If the speed is lower in the second medium the rays will bend towards the normal.  (the angle of refraction will be smaller than the angle of incidence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B) If the angle of incidence = 45º   What is the angle of refraction, when traveling from air into water? Note: you only need to use the part of the formula that applies to this ques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 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</a:t>
            </a:r>
            <a:r>
              <a:rPr b="0" i="1" lang="en-US" sz="28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1,2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 = </a:t>
            </a:r>
            <a:r>
              <a:rPr b="0" i="1" lang="en-US" sz="28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sin of angle of incid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      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sin of angle of refra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1.33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 = </a:t>
            </a:r>
            <a:r>
              <a:rPr b="0" i="1" lang="en-US" sz="28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sin 45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1.00     sin of the angle of refra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Sin angle r = </a:t>
            </a:r>
            <a:r>
              <a:rPr b="0" i="1" lang="en-US" sz="28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sin45º 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= 32.1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       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1.3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C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  when traveling from water back into ai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</a:t>
            </a:r>
            <a:r>
              <a:rPr b="0" i="1" lang="en-US" sz="28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1,2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 = </a:t>
            </a:r>
            <a:r>
              <a:rPr b="0" i="1" lang="en-US" sz="28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sin of angle of incid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     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sin of angle of refra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1.00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 = </a:t>
            </a:r>
            <a:r>
              <a:rPr b="0" i="1" lang="en-US" sz="28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sin 32.1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1.33     sin of the angle of refra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Sin angle r = </a:t>
            </a:r>
            <a:r>
              <a:rPr b="0" i="1" lang="en-US" sz="28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(1.33)(sin32.1º)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= 45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          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1.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Critical  Angl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For light rays passing from a substance of higher refractive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index to one of lower refractive index, there is a certain angle of incidence for which the refracted ray makes a right angle with the normal and comes out along the surface between the two media.</a:t>
            </a:r>
            <a:r>
              <a:rPr b="0" i="1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Any angle larger than this </a:t>
            </a:r>
            <a:r>
              <a:rPr b="1" i="1" lang="en-US" sz="4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critical angle</a:t>
            </a:r>
            <a:r>
              <a:rPr b="0" i="1" lang="en-US" sz="4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will cause the light ray to show </a:t>
            </a:r>
            <a:r>
              <a:rPr b="1" i="1" lang="en-US" sz="4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total internal reflection</a:t>
            </a:r>
            <a:r>
              <a:rPr b="0" i="1" lang="en-US" sz="4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.</a:t>
            </a: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Why does this happen when going from higher to lower but not when going from lower to higher?</a:t>
            </a:r>
            <a:r>
              <a:rPr b="0" i="1" lang="en-US" sz="54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Because the angle of refraction is greater than the angle of incidence</a:t>
            </a:r>
            <a:r>
              <a:rPr b="0" i="1" lang="en-US" sz="48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The formula for calculating the critical angl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Sin critical angle = </a:t>
            </a:r>
            <a:r>
              <a:rPr b="0" i="1" lang="en-US" sz="32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n</a:t>
            </a:r>
            <a:r>
              <a:rPr b="0" i="1" lang="en-US" sz="3200" spc="-1" strike="noStrike" u="sng" baseline="-30000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2</a:t>
            </a:r>
            <a:r>
              <a:rPr b="0" i="1" lang="en-US" sz="32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 sin 90º </a:t>
            </a: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           </a:t>
            </a: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</a:t>
            </a:r>
            <a:r>
              <a:rPr b="0" i="1" lang="en-US" sz="32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n</a:t>
            </a:r>
            <a:r>
              <a:rPr b="0" i="1" lang="en-US" sz="3200" spc="-1" strike="noStrike" u="sng" baseline="-30000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2  </a:t>
            </a: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= </a:t>
            </a:r>
            <a:r>
              <a:rPr b="0" i="1" lang="en-US" sz="32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sin of critical ang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</a:t>
            </a:r>
            <a:r>
              <a:rPr b="0" i="1" lang="en-US" sz="32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1</a:t>
            </a: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   sin of 90</a:t>
            </a:r>
            <a:r>
              <a:rPr b="0" i="1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990720" y="914400"/>
          <a:ext cx="723888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914400"/>
                    <a:ext cx="72388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xample:  What is the critical angle for light rays passing from diamond into wat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</a:t>
            </a:r>
            <a:r>
              <a:rPr b="0" i="1" lang="en-US" sz="28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diamond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= 2.4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</a:t>
            </a:r>
            <a:r>
              <a:rPr b="0" i="1" lang="en-US" sz="28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water</a:t>
            </a: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= 1.3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sin critical angle = </a:t>
            </a:r>
            <a:r>
              <a:rPr b="0" i="1" lang="en-US" sz="20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n</a:t>
            </a:r>
            <a:r>
              <a:rPr b="0" i="1" lang="en-US" sz="2000" spc="-1" strike="noStrike" u="sng" baseline="-30000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2</a:t>
            </a:r>
            <a:r>
              <a:rPr b="0" i="1" lang="en-US" sz="20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 sin 90º </a:t>
            </a:r>
            <a:r>
              <a:rPr b="0" i="1" lang="en-US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= </a:t>
            </a:r>
            <a:r>
              <a:rPr b="0" i="1" lang="en-US" sz="20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1.33 sin 90</a:t>
            </a:r>
            <a:r>
              <a:rPr b="0" i="1" lang="en-US" sz="2000" spc="-1" strike="noStrike" u="sng">
                <a:solidFill>
                  <a:srgbClr val="ffffcc"/>
                </a:solidFill>
                <a:uFillTx/>
                <a:latin typeface="Symbol"/>
                <a:ea typeface="Symbol"/>
              </a:rPr>
              <a:t></a:t>
            </a:r>
            <a:r>
              <a:rPr b="0" i="1" lang="en-US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  =  0.5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</a:t>
            </a:r>
            <a:r>
              <a:rPr b="0" i="1" lang="en-US" sz="20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1</a:t>
            </a:r>
            <a:r>
              <a:rPr b="0" i="1" lang="en-US" sz="20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i="1" lang="en-US" sz="20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2.4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critical angle = 33.3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Sample Proble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Air (n= 1.0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Oleic acid (n = 1.4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Water (n = 1.3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Carbon Disulfide (n = 1.6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Air (n= 1.0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Given:  the angle of incidence from air into oleic acid is 36.9º and light ray continues through column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g 400 # 7,8,9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g 405 # 10,1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Stated Mathematically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  =  </a:t>
            </a:r>
            <a:r>
              <a:rPr b="0" i="1" lang="en-US" sz="4000" spc="-1" strike="noStrike" u="sng">
                <a:solidFill>
                  <a:srgbClr val="ffffcc"/>
                </a:solidFill>
                <a:uFillTx/>
                <a:latin typeface="Comic Sans MS"/>
                <a:ea typeface="Times New Roman"/>
              </a:rPr>
              <a:t>Sin of angle of incidence</a:t>
            </a:r>
            <a:r>
              <a:rPr b="0" i="1" lang="en-US" sz="4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      </a:t>
            </a:r>
            <a:r>
              <a:rPr b="0" i="1" lang="en-US" sz="4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Sin of angle of refra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  </a:t>
            </a:r>
            <a:r>
              <a:rPr b="0" i="1" lang="en-US" sz="4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 is usually stated as n</a:t>
            </a:r>
            <a:r>
              <a:rPr b="0" i="1" lang="en-US" sz="40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1,2</a:t>
            </a:r>
            <a:r>
              <a:rPr b="0" i="1" lang="en-US" sz="4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which means the index of refraction when traveling from substance 1 into substance 2.  “n</a:t>
            </a:r>
            <a:r>
              <a:rPr b="0" i="1" lang="en-US" sz="40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2</a:t>
            </a:r>
            <a:r>
              <a:rPr b="0" i="1" lang="en-US" sz="4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” is the substance you go “INTO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(note: n</a:t>
            </a:r>
            <a:r>
              <a:rPr b="0" i="1" lang="en-US" sz="4000" spc="-1" strike="noStrike" baseline="-25000">
                <a:solidFill>
                  <a:srgbClr val="ffffcc"/>
                </a:solidFill>
                <a:latin typeface="Comic Sans MS"/>
                <a:ea typeface="Times New Roman"/>
              </a:rPr>
              <a:t>2  </a:t>
            </a:r>
            <a:r>
              <a:rPr b="0" i="1" lang="en-US" sz="4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and INTO will   help you remember)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 </a:t>
            </a:r>
            <a:r>
              <a:rPr b="0" i="1" lang="en-US" sz="4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The following table gives indices of refraction for various substances (from air into substance)  Text has additional information o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 </a:t>
            </a:r>
            <a:r>
              <a:rPr b="0" i="1" lang="en-US" sz="4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g. 397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762120" y="685800"/>
          <a:ext cx="784836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85800"/>
                    <a:ext cx="784836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Why do light rays bend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</a:t>
            </a:r>
            <a:r>
              <a:rPr b="0" i="1" lang="en-US" sz="4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The light travels at a different velocity in each substa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</a:t>
            </a:r>
            <a:r>
              <a:rPr b="0" i="1" lang="en-US" sz="4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“</a:t>
            </a:r>
            <a:r>
              <a:rPr b="0" i="1" lang="en-US" sz="4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” represents the number of times faster light travels in air than in the given substanc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</a:t>
            </a:r>
            <a:r>
              <a:rPr b="0" i="1" lang="en-US" sz="40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Therefore, Snell’s Law is also proportional to the relative velocities of the substances, and therefore their wavelength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9:49:31Z</dcterms:created>
  <dc:creator>nbdoe</dc:creator>
  <dc:description/>
  <dc:language>en-US</dc:language>
  <cp:lastModifiedBy>School District 17</cp:lastModifiedBy>
  <dcterms:modified xsi:type="dcterms:W3CDTF">2008-12-15T15:17:27Z</dcterms:modified>
  <cp:revision>2</cp:revision>
  <dc:subject/>
  <dc:title>Laws of Refraction</dc:title>
</cp:coreProperties>
</file>